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1198872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6026760"/>
            <a:ext cx="1198872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51360" y="303480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602676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51360" y="602676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386028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1560" y="3034800"/>
            <a:ext cx="386028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15160" y="3034800"/>
            <a:ext cx="386028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6026760"/>
            <a:ext cx="386028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1560" y="6026760"/>
            <a:ext cx="386028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15160" y="6026760"/>
            <a:ext cx="386028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7960" y="3034800"/>
            <a:ext cx="1198872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1198872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585036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51360" y="3034800"/>
            <a:ext cx="585036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7960" y="596880"/>
            <a:ext cx="1198872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51360" y="3034800"/>
            <a:ext cx="585036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7960" y="602676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3034800"/>
            <a:ext cx="1198872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585036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51360" y="303480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51360" y="602676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51360" y="303480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7960" y="6026760"/>
            <a:ext cx="1198872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1198872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7960" y="6026760"/>
            <a:ext cx="1198872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51360" y="303480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7960" y="602676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651360" y="602676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386028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1560" y="3034800"/>
            <a:ext cx="386028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615160" y="3034800"/>
            <a:ext cx="386028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7960" y="6026760"/>
            <a:ext cx="386028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61560" y="6026760"/>
            <a:ext cx="386028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615160" y="6026760"/>
            <a:ext cx="386028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7960" y="3034800"/>
            <a:ext cx="1198872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1198872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585036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51360" y="3034800"/>
            <a:ext cx="585036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1198872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7960" y="596880"/>
            <a:ext cx="1198872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51360" y="3034800"/>
            <a:ext cx="585036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7960" y="602676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585036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51360" y="303480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51360" y="602676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51360" y="303480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7960" y="6026760"/>
            <a:ext cx="1198872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1198872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960" y="6026760"/>
            <a:ext cx="1198872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651360" y="303480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7960" y="602676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651360" y="602676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386028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61560" y="3034800"/>
            <a:ext cx="386028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615160" y="3034800"/>
            <a:ext cx="386028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7960" y="6026760"/>
            <a:ext cx="386028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561560" y="6026760"/>
            <a:ext cx="386028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615160" y="6026760"/>
            <a:ext cx="386028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7960" y="3034800"/>
            <a:ext cx="1198872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1198872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585036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51360" y="3034800"/>
            <a:ext cx="585036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585036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51360" y="3034800"/>
            <a:ext cx="585036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07960" y="596880"/>
            <a:ext cx="1198872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51360" y="3034800"/>
            <a:ext cx="585036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7960" y="602676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585036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51360" y="303480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651360" y="602676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51360" y="303480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7960" y="6026760"/>
            <a:ext cx="1198872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1198872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7960" y="6026760"/>
            <a:ext cx="1198872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651360" y="303480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7960" y="602676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651360" y="602676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386028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1560" y="3034800"/>
            <a:ext cx="386028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615160" y="3034800"/>
            <a:ext cx="386028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7960" y="6026760"/>
            <a:ext cx="386028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561560" y="6026760"/>
            <a:ext cx="386028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8615160" y="6026760"/>
            <a:ext cx="386028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596880"/>
            <a:ext cx="1198872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51360" y="3034800"/>
            <a:ext cx="585036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602676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585036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51360" y="303480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51360" y="602676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51360" y="3034800"/>
            <a:ext cx="585036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6026760"/>
            <a:ext cx="1198872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7960" y="9244080"/>
            <a:ext cx="11988720" cy="360"/>
          </a:xfrm>
          <a:prstGeom prst="pie">
            <a:avLst/>
          </a:prstGeom>
          <a:noFill/>
          <a:ln w="76320">
            <a:solidFill>
              <a:srgbClr val="444444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" name=""/>
          <p:cNvSpPr/>
          <p:nvPr/>
        </p:nvSpPr>
        <p:spPr>
          <a:xfrm>
            <a:off x="507960" y="507960"/>
            <a:ext cx="11988720" cy="360"/>
          </a:xfrm>
          <a:prstGeom prst="pie">
            <a:avLst/>
          </a:prstGeom>
          <a:noFill/>
          <a:ln w="12600">
            <a:solidFill>
              <a:srgbClr val="444444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2" name=""/>
          <p:cNvSpPr/>
          <p:nvPr/>
        </p:nvSpPr>
        <p:spPr>
          <a:xfrm>
            <a:off x="507960" y="5181480"/>
            <a:ext cx="11988720" cy="360"/>
          </a:xfrm>
          <a:prstGeom prst="pie">
            <a:avLst/>
          </a:prstGeom>
          <a:noFill/>
          <a:ln w="12600">
            <a:solidFill>
              <a:srgbClr val="444444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3009960"/>
            <a:ext cx="11988720" cy="20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400" spc="-1" strike="noStrike">
                <a:solidFill>
                  <a:srgbClr val="606060"/>
                </a:solidFill>
                <a:latin typeface="Gill Sans Light"/>
              </a:rPr>
              <a:t>Click to edit the title text format</a:t>
            </a: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07960" y="5562360"/>
            <a:ext cx="119887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lvl="1" marL="27360">
              <a:spcBef>
                <a:spcPts val="4201"/>
              </a:spcBef>
              <a:buClr>
                <a:srgbClr val="606060"/>
              </a:buClr>
              <a:buFont typeface="Gill Sans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lvl="2" marL="54720">
              <a:spcBef>
                <a:spcPts val="4201"/>
              </a:spcBef>
              <a:buClr>
                <a:srgbClr val="606060"/>
              </a:buClr>
              <a:buFont typeface="Gill Sans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lvl="3" marL="82080">
              <a:spcBef>
                <a:spcPts val="4201"/>
              </a:spcBef>
              <a:buClr>
                <a:srgbClr val="606060"/>
              </a:buClr>
              <a:buFont typeface="Gill Sans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lvl="4" marL="109440">
              <a:spcBef>
                <a:spcPts val="4201"/>
              </a:spcBef>
              <a:buClr>
                <a:srgbClr val="606060"/>
              </a:buClr>
              <a:buFont typeface="Gill Sans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lvl="5" marL="109440">
              <a:spcBef>
                <a:spcPts val="4201"/>
              </a:spcBef>
              <a:buClr>
                <a:srgbClr val="606060"/>
              </a:buClr>
              <a:buFont typeface="Gill Sans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lvl="6" marL="109440">
              <a:spcBef>
                <a:spcPts val="4201"/>
              </a:spcBef>
              <a:buClr>
                <a:srgbClr val="606060"/>
              </a:buClr>
              <a:buFont typeface="Gill Sans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960" y="2577960"/>
            <a:ext cx="11988720" cy="360"/>
          </a:xfrm>
          <a:prstGeom prst="pie">
            <a:avLst/>
          </a:prstGeom>
          <a:noFill/>
          <a:ln w="12600">
            <a:solidFill>
              <a:srgbClr val="444444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42" name=""/>
          <p:cNvSpPr/>
          <p:nvPr/>
        </p:nvSpPr>
        <p:spPr>
          <a:xfrm>
            <a:off x="507960" y="9244080"/>
            <a:ext cx="11988720" cy="360"/>
          </a:xfrm>
          <a:prstGeom prst="pie">
            <a:avLst/>
          </a:prstGeom>
          <a:noFill/>
          <a:ln w="76320">
            <a:solidFill>
              <a:srgbClr val="444444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43" name=""/>
          <p:cNvSpPr/>
          <p:nvPr/>
        </p:nvSpPr>
        <p:spPr>
          <a:xfrm>
            <a:off x="507960" y="507960"/>
            <a:ext cx="11988720" cy="360"/>
          </a:xfrm>
          <a:prstGeom prst="pie">
            <a:avLst/>
          </a:prstGeom>
          <a:noFill/>
          <a:ln w="12600">
            <a:solidFill>
              <a:srgbClr val="444444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400" spc="-1" strike="noStrike">
                <a:solidFill>
                  <a:srgbClr val="606060"/>
                </a:solidFill>
                <a:latin typeface="Gill Sans Light"/>
              </a:rPr>
              <a:t>Click to edit the title text format</a:t>
            </a: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07960" y="3034800"/>
            <a:ext cx="1198872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3000"/>
          </a:bodyPr>
          <a:p>
            <a:pPr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lvl="1" marL="189720">
              <a:spcBef>
                <a:spcPts val="4201"/>
              </a:spcBef>
              <a:buClr>
                <a:srgbClr val="606060"/>
              </a:buClr>
              <a:buFont typeface="Gill Sans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lvl="2" marL="379440">
              <a:spcBef>
                <a:spcPts val="4201"/>
              </a:spcBef>
              <a:buClr>
                <a:srgbClr val="606060"/>
              </a:buClr>
              <a:buFont typeface="Gill Sans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lvl="3" marL="569160">
              <a:spcBef>
                <a:spcPts val="4201"/>
              </a:spcBef>
              <a:buClr>
                <a:srgbClr val="606060"/>
              </a:buClr>
              <a:buFont typeface="Gill Sans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lvl="4" marL="758880">
              <a:spcBef>
                <a:spcPts val="4201"/>
              </a:spcBef>
              <a:buClr>
                <a:srgbClr val="606060"/>
              </a:buClr>
              <a:buFont typeface="Gill Sans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lvl="5" marL="758880">
              <a:spcBef>
                <a:spcPts val="4201"/>
              </a:spcBef>
              <a:buClr>
                <a:srgbClr val="606060"/>
              </a:buClr>
              <a:buFont typeface="Gill Sans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lvl="6" marL="758880">
              <a:spcBef>
                <a:spcPts val="4201"/>
              </a:spcBef>
              <a:buClr>
                <a:srgbClr val="606060"/>
              </a:buClr>
              <a:buFont typeface="Gill Sans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07960" y="9244080"/>
            <a:ext cx="11988720" cy="360"/>
          </a:xfrm>
          <a:prstGeom prst="pie">
            <a:avLst/>
          </a:prstGeom>
          <a:noFill/>
          <a:ln w="76320">
            <a:solidFill>
              <a:srgbClr val="444444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507960" y="507960"/>
            <a:ext cx="11988720" cy="360"/>
          </a:xfrm>
          <a:prstGeom prst="pie">
            <a:avLst/>
          </a:prstGeom>
          <a:noFill/>
          <a:ln w="12600">
            <a:solidFill>
              <a:srgbClr val="444444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7960" y="7098840"/>
            <a:ext cx="11988720" cy="11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400" spc="-1" strike="noStrike">
                <a:solidFill>
                  <a:srgbClr val="606060"/>
                </a:solidFill>
                <a:latin typeface="Gill Sans Light"/>
              </a:rPr>
              <a:t>Click to edit the title text format</a:t>
            </a: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7960" y="8267760"/>
            <a:ext cx="11988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lvl="1" marL="27360">
              <a:spcBef>
                <a:spcPts val="4201"/>
              </a:spcBef>
              <a:buClr>
                <a:srgbClr val="606060"/>
              </a:buClr>
              <a:buFont typeface="Gill Sans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lvl="2" marL="54720">
              <a:spcBef>
                <a:spcPts val="4201"/>
              </a:spcBef>
              <a:buClr>
                <a:srgbClr val="606060"/>
              </a:buClr>
              <a:buFont typeface="Gill Sans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lvl="3" marL="82080">
              <a:spcBef>
                <a:spcPts val="4201"/>
              </a:spcBef>
              <a:buClr>
                <a:srgbClr val="606060"/>
              </a:buClr>
              <a:buFont typeface="Gill Sans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lvl="4" marL="109440">
              <a:spcBef>
                <a:spcPts val="4201"/>
              </a:spcBef>
              <a:buClr>
                <a:srgbClr val="606060"/>
              </a:buClr>
              <a:buFont typeface="Gill Sans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lvl="5" marL="109440">
              <a:spcBef>
                <a:spcPts val="4201"/>
              </a:spcBef>
              <a:buClr>
                <a:srgbClr val="606060"/>
              </a:buClr>
              <a:buFont typeface="Gill Sans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lvl="6" marL="109440">
              <a:spcBef>
                <a:spcPts val="4201"/>
              </a:spcBef>
              <a:buClr>
                <a:srgbClr val="606060"/>
              </a:buClr>
              <a:buFont typeface="Gill Sans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07960" y="9244080"/>
            <a:ext cx="11988720" cy="360"/>
          </a:xfrm>
          <a:prstGeom prst="pie">
            <a:avLst/>
          </a:prstGeom>
          <a:noFill/>
          <a:ln w="76320">
            <a:solidFill>
              <a:srgbClr val="444444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23" name=""/>
          <p:cNvSpPr/>
          <p:nvPr/>
        </p:nvSpPr>
        <p:spPr>
          <a:xfrm>
            <a:off x="507960" y="507960"/>
            <a:ext cx="11988720" cy="360"/>
          </a:xfrm>
          <a:prstGeom prst="pie">
            <a:avLst/>
          </a:prstGeom>
          <a:noFill/>
          <a:ln w="12600">
            <a:solidFill>
              <a:srgbClr val="444444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400" spc="-1" strike="noStrike">
                <a:solidFill>
                  <a:srgbClr val="606060"/>
                </a:solidFill>
                <a:latin typeface="Gill Sans Light"/>
              </a:rPr>
              <a:t>Click to edit the title text format</a:t>
            </a: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lvl="1" marL="21456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lvl="2" marL="429480">
              <a:spcBef>
                <a:spcPts val="4201"/>
              </a:spcBef>
              <a:buClr>
                <a:srgbClr val="606060"/>
              </a:buClr>
              <a:buFont typeface="Gill Sans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lvl="3" marL="644400">
              <a:spcBef>
                <a:spcPts val="4201"/>
              </a:spcBef>
              <a:buClr>
                <a:srgbClr val="606060"/>
              </a:buClr>
              <a:buFont typeface="Gill Sans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lvl="4" marL="859320">
              <a:spcBef>
                <a:spcPts val="4201"/>
              </a:spcBef>
              <a:buClr>
                <a:srgbClr val="606060"/>
              </a:buClr>
              <a:buFont typeface="Gill Sans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lvl="5" marL="859320">
              <a:spcBef>
                <a:spcPts val="850"/>
              </a:spcBef>
              <a:buClr>
                <a:srgbClr val="60606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lvl="6" marL="859320">
              <a:spcBef>
                <a:spcPts val="850"/>
              </a:spcBef>
              <a:buClr>
                <a:srgbClr val="60606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.imgur.com/aE4v3Uz.jpg" TargetMode="Externa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7960" y="3009960"/>
            <a:ext cx="11987280" cy="20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400" spc="-1" strike="noStrike">
                <a:solidFill>
                  <a:srgbClr val="606060"/>
                </a:solidFill>
                <a:latin typeface="Gill Sans Light"/>
              </a:rPr>
              <a:t>HISTORY OF LANGUAGE</a:t>
            </a: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5562720"/>
            <a:ext cx="11987280" cy="8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606060"/>
                </a:solidFill>
                <a:latin typeface="Gill Sans"/>
              </a:rPr>
              <a:t>The path of the Indo-European language family, and the façets of of linguistics</a:t>
            </a:r>
            <a:endParaRPr b="0" lang="en-US" sz="2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7960" y="590400"/>
            <a:ext cx="11987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400" spc="-1" strike="noStrike">
                <a:solidFill>
                  <a:srgbClr val="606060"/>
                </a:solidFill>
                <a:latin typeface="Gill Sans Light"/>
              </a:rPr>
              <a:t>WHAT IS INDO-EUROPEAN?</a:t>
            </a: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7960" y="3034800"/>
            <a:ext cx="11987280" cy="57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2000"/>
          </a:bodyPr>
          <a:p>
            <a:pPr marL="385200" indent="-385200">
              <a:spcBef>
                <a:spcPts val="4201"/>
              </a:spcBef>
              <a:buSzPct val="100000"/>
              <a:buBlip>
                <a:blip r:embed="rId2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Indo-European is the name of the </a:t>
            </a:r>
            <a:r>
              <a:rPr b="0" i="1" lang="en-US" sz="3400" spc="-1" strike="noStrike">
                <a:solidFill>
                  <a:srgbClr val="606060"/>
                </a:solidFill>
                <a:latin typeface="Gill Sans"/>
              </a:rPr>
              <a:t>family </a:t>
            </a: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of languages that Latin, Greek, English, and many other languages are a part of. 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marL="385200" indent="-385200">
              <a:spcBef>
                <a:spcPts val="4201"/>
              </a:spcBef>
              <a:buSzPct val="100000"/>
              <a:buBlip>
                <a:blip r:embed="rId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It is called </a:t>
            </a:r>
            <a:r>
              <a:rPr b="0" i="1" lang="en-US" sz="3400" spc="-1" strike="noStrike">
                <a:solidFill>
                  <a:srgbClr val="606060"/>
                </a:solidFill>
                <a:latin typeface="Gill Sans"/>
              </a:rPr>
              <a:t>Indo-European </a:t>
            </a: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because it has two major branches: the Indian/Iranian side, which spread languages across India and near Asia; the European side, which spread throughout Europe. 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  <a:p>
            <a:pPr marL="385200" indent="-385200">
              <a:spcBef>
                <a:spcPts val="4201"/>
              </a:spcBef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Gill Sans"/>
              </a:rPr>
              <a:t>A language family means that all languages within that family </a:t>
            </a:r>
            <a:r>
              <a:rPr b="0" i="1" lang="en-US" sz="3400" spc="-1" strike="noStrike">
                <a:solidFill>
                  <a:srgbClr val="606060"/>
                </a:solidFill>
                <a:latin typeface="Gill Sans"/>
              </a:rPr>
              <a:t>have one common ancestor—</a:t>
            </a:r>
            <a:r>
              <a:rPr b="1" i="1" lang="en-US" sz="3400" spc="-1" strike="noStrike">
                <a:solidFill>
                  <a:srgbClr val="606060"/>
                </a:solidFill>
                <a:latin typeface="Gill Sans"/>
              </a:rPr>
              <a:t>every Indo-European language came from just one common language!</a:t>
            </a:r>
            <a:endParaRPr b="0" lang="en-US" sz="3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495360" y="1092240"/>
            <a:ext cx="12014280" cy="6006960"/>
            <a:chOff x="495360" y="1092240"/>
            <a:chExt cx="12014280" cy="6006960"/>
          </a:xfrm>
        </p:grpSpPr>
        <p:pic>
          <p:nvPicPr>
            <p:cNvPr id="167" name="pasted-image.png" descr=""/>
            <p:cNvPicPr/>
            <p:nvPr/>
          </p:nvPicPr>
          <p:blipFill>
            <a:blip r:embed="rId2"/>
            <a:srcRect l="0" t="10500" r="0" b="10500"/>
            <a:stretch/>
          </p:blipFill>
          <p:spPr>
            <a:xfrm>
              <a:off x="622080" y="1180800"/>
              <a:ext cx="11760480" cy="567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495360" y="1092240"/>
              <a:ext cx="12014280" cy="600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960" y="7099200"/>
            <a:ext cx="11987280" cy="11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3700" spc="-1" strike="noStrike">
                <a:solidFill>
                  <a:srgbClr val="606060"/>
                </a:solidFill>
                <a:latin typeface="Gill Sans Light"/>
              </a:rPr>
              <a:t>THE MIGRATION OF INSO-EUROPEAN CULTURE AND LANGUAGE: 4000~1000BCE.</a:t>
            </a:r>
            <a:endParaRPr b="0" lang="en-US" sz="37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7960" y="8267760"/>
            <a:ext cx="119872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2300" spc="-1" strike="noStrike">
                <a:solidFill>
                  <a:srgbClr val="606060"/>
                </a:solidFill>
                <a:latin typeface="Gill Sans"/>
              </a:rPr>
              <a:t>Remember that this is a theory—it is our best guess, and is supported by literary and archaeological evidence, but we will never know for certain. </a:t>
            </a:r>
            <a:endParaRPr b="0" lang="en-US" sz="23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476280" y="1074600"/>
            <a:ext cx="12050640" cy="6024600"/>
            <a:chOff x="476280" y="1074600"/>
            <a:chExt cx="12050640" cy="6024600"/>
          </a:xfrm>
        </p:grpSpPr>
        <p:pic>
          <p:nvPicPr>
            <p:cNvPr id="172" name="pasted-image.png" descr=""/>
            <p:cNvPicPr/>
            <p:nvPr/>
          </p:nvPicPr>
          <p:blipFill>
            <a:blip r:embed="rId2"/>
            <a:srcRect l="0" t="11805" r="0" b="11805"/>
            <a:stretch/>
          </p:blipFill>
          <p:spPr>
            <a:xfrm>
              <a:off x="603000" y="1163160"/>
              <a:ext cx="11796840" cy="569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476280" y="1074600"/>
              <a:ext cx="12050640" cy="602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7960" y="7048080"/>
            <a:ext cx="11987280" cy="11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3700" spc="-1" strike="noStrike">
                <a:solidFill>
                  <a:srgbClr val="606060"/>
                </a:solidFill>
                <a:latin typeface="Gill Sans Light"/>
              </a:rPr>
              <a:t>THE DOMINANCE OF INDO-EUROPEAN IN THE WORLD TODAY: 1950CE. </a:t>
            </a:r>
            <a:endParaRPr b="0" lang="en-US" sz="37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7960" y="8267760"/>
            <a:ext cx="119872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606060"/>
                </a:solidFill>
                <a:latin typeface="Gill Sans"/>
              </a:rPr>
              <a:t>What are some of the causes for such a widespread dispersal of one language family?</a:t>
            </a:r>
            <a:endParaRPr b="0" lang="en-US" sz="24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07960" y="5918040"/>
            <a:ext cx="11988720" cy="533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000" spc="-1" strike="noStrike">
                <a:solidFill>
                  <a:srgbClr val="9d9d9d"/>
                </a:solidFill>
                <a:latin typeface="Gill Sans"/>
              </a:rPr>
              <a:t>It is an inescapable fact of linguistics. </a:t>
            </a:r>
            <a:endParaRPr b="0" lang="en-US" sz="30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77" name=""/>
          <p:cNvSpPr/>
          <p:nvPr/>
        </p:nvSpPr>
        <p:spPr>
          <a:xfrm>
            <a:off x="1270080" y="3986280"/>
            <a:ext cx="10464840" cy="1245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Gill Sans"/>
              </a:rPr>
              <a:t>Language shifts constantly, quickly, and unpredictably: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://i.imgur.com/aE4v3Uz.jpg</a:t>
            </a:r>
            <a:endParaRPr b="0" lang="en-US" sz="36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07960" y="5918040"/>
            <a:ext cx="11988720" cy="1136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000" spc="-1" strike="noStrike">
                <a:solidFill>
                  <a:srgbClr val="9d9d9d"/>
                </a:solidFill>
                <a:latin typeface="Gill Sans"/>
              </a:rPr>
              <a:t>Every time someone speaks, language can shift by their accent, location, choice of words, or anything else that they form. </a:t>
            </a:r>
            <a:endParaRPr b="0" lang="en-US" sz="3000" spc="-1" strike="noStrike">
              <a:solidFill>
                <a:srgbClr val="606060"/>
              </a:solidFill>
              <a:latin typeface="Gill Sans"/>
            </a:endParaRPr>
          </a:p>
        </p:txBody>
      </p:sp>
      <p:sp>
        <p:nvSpPr>
          <p:cNvPr id="179" name=""/>
          <p:cNvSpPr/>
          <p:nvPr/>
        </p:nvSpPr>
        <p:spPr>
          <a:xfrm>
            <a:off x="1270080" y="3986280"/>
            <a:ext cx="10464840" cy="1245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606060"/>
                </a:solidFill>
                <a:latin typeface="Gill Sans"/>
              </a:rPr>
              <a:t>Languages don’t just change in the past: </a:t>
            </a:r>
            <a:r>
              <a:rPr b="0" lang="en-US" sz="3600" spc="-1" strike="noStrike" u="sng">
                <a:solidFill>
                  <a:srgbClr val="606060"/>
                </a:solidFill>
                <a:uFillTx/>
                <a:latin typeface="Gill Sans"/>
              </a:rPr>
              <a:t>https://www.youtube.com/watch?v=9UoJ1-ZGb1w</a:t>
            </a:r>
            <a:endParaRPr b="0" lang="en-US" sz="36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596880"/>
            <a:ext cx="11987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400" spc="-1" strike="noStrike">
                <a:solidFill>
                  <a:srgbClr val="606060"/>
                </a:solidFill>
                <a:latin typeface="Gill Sans Light"/>
              </a:rPr>
              <a:t>IMPORTANT TERMINOLOGY OF LINGUISTICS</a:t>
            </a:r>
            <a:endParaRPr b="0" lang="en-US" sz="6400" spc="-1" strike="noStrike">
              <a:solidFill>
                <a:srgbClr val="606060"/>
              </a:solidFill>
              <a:latin typeface="Gill Sans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3040200"/>
            <a:ext cx="11987280" cy="57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2000"/>
          </a:bodyPr>
          <a:p>
            <a:pPr marL="334440" indent="-334440"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1" lang="en-US" sz="2900" spc="-1" strike="noStrike">
                <a:solidFill>
                  <a:srgbClr val="606060"/>
                </a:solidFill>
                <a:latin typeface="Gill Sans"/>
              </a:rPr>
              <a:t>Morphology:</a:t>
            </a:r>
            <a:r>
              <a:rPr b="0" lang="en-US" sz="2900" spc="-1" strike="noStrike">
                <a:solidFill>
                  <a:srgbClr val="606060"/>
                </a:solidFill>
                <a:latin typeface="Gill Sans"/>
              </a:rPr>
              <a:t> the study of words, how they are formed, and how they are related to one another within a language. </a:t>
            </a:r>
            <a:endParaRPr b="0" lang="en-US" sz="2900" spc="-1" strike="noStrike">
              <a:solidFill>
                <a:srgbClr val="606060"/>
              </a:solidFill>
              <a:latin typeface="Gill Sans"/>
            </a:endParaRPr>
          </a:p>
          <a:p>
            <a:pPr marL="334440" indent="-334440"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1" lang="en-US" sz="2900" spc="-1" strike="noStrike">
                <a:solidFill>
                  <a:srgbClr val="606060"/>
                </a:solidFill>
                <a:latin typeface="Gill Sans"/>
              </a:rPr>
              <a:t>Inflection:</a:t>
            </a:r>
            <a:r>
              <a:rPr b="0" lang="en-US" sz="2900" spc="-1" strike="noStrike">
                <a:solidFill>
                  <a:srgbClr val="606060"/>
                </a:solidFill>
                <a:latin typeface="Gill Sans"/>
              </a:rPr>
              <a:t> the way in which the spelling of a noun changes. </a:t>
            </a:r>
            <a:r>
              <a:rPr b="0" i="1" lang="en-US" sz="2900" spc="-1" strike="noStrike">
                <a:solidFill>
                  <a:srgbClr val="606060"/>
                </a:solidFill>
                <a:latin typeface="Gill Sans"/>
              </a:rPr>
              <a:t>In Latin, inflection happens when you use a noun in different cases. (femina, feminarum, etc.).</a:t>
            </a:r>
            <a:endParaRPr b="0" lang="en-US" sz="2900" spc="-1" strike="noStrike">
              <a:solidFill>
                <a:srgbClr val="606060"/>
              </a:solidFill>
              <a:latin typeface="Gill Sans"/>
            </a:endParaRPr>
          </a:p>
          <a:p>
            <a:pPr marL="334440" indent="-334440"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1" lang="en-US" sz="2900" spc="-1" strike="noStrike">
                <a:solidFill>
                  <a:srgbClr val="606060"/>
                </a:solidFill>
                <a:latin typeface="Gill Sans"/>
              </a:rPr>
              <a:t>Morpheme:</a:t>
            </a:r>
            <a:r>
              <a:rPr b="0" lang="en-US" sz="2900" spc="-1" strike="noStrike">
                <a:solidFill>
                  <a:srgbClr val="606060"/>
                </a:solidFill>
                <a:latin typeface="Gill Sans"/>
              </a:rPr>
              <a:t> the smallest unit of a word. Morphemes add meaning, context, and grammar to words. </a:t>
            </a:r>
            <a:r>
              <a:rPr b="0" i="1" lang="en-US" sz="2900" spc="-1" strike="noStrike">
                <a:solidFill>
                  <a:srgbClr val="606060"/>
                </a:solidFill>
                <a:latin typeface="Gill Sans"/>
              </a:rPr>
              <a:t>For example, when we make an English word plural (dog - dogs), the -s is a morpheme, because it </a:t>
            </a:r>
            <a:r>
              <a:rPr b="1" i="1" lang="en-US" sz="2900" spc="-1" strike="noStrike">
                <a:solidFill>
                  <a:srgbClr val="606060"/>
                </a:solidFill>
                <a:latin typeface="Gill Sans"/>
              </a:rPr>
              <a:t>serves a function. </a:t>
            </a:r>
            <a:endParaRPr b="0" lang="en-US" sz="2900" spc="-1" strike="noStrike">
              <a:solidFill>
                <a:srgbClr val="606060"/>
              </a:solidFill>
              <a:latin typeface="Gill Sans"/>
            </a:endParaRPr>
          </a:p>
          <a:p>
            <a:pPr marL="334440" indent="-334440"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1" lang="en-US" sz="2900" spc="-1" strike="noStrike">
                <a:solidFill>
                  <a:srgbClr val="606060"/>
                </a:solidFill>
                <a:latin typeface="Gill Sans"/>
              </a:rPr>
              <a:t>Orthography: </a:t>
            </a:r>
            <a:r>
              <a:rPr b="0" lang="en-US" sz="2900" spc="-1" strike="noStrike">
                <a:solidFill>
                  <a:srgbClr val="606060"/>
                </a:solidFill>
                <a:latin typeface="Gill Sans"/>
              </a:rPr>
              <a:t>the rules of spelling, punctuation, emphasis, </a:t>
            </a:r>
            <a:r>
              <a:rPr b="0" i="1" lang="en-US" sz="2900" spc="-1" strike="noStrike">
                <a:solidFill>
                  <a:srgbClr val="606060"/>
                </a:solidFill>
                <a:latin typeface="Gill Sans"/>
              </a:rPr>
              <a:t>etc. </a:t>
            </a:r>
            <a:r>
              <a:rPr b="0" lang="en-US" sz="2900" spc="-1" strike="noStrike">
                <a:solidFill>
                  <a:srgbClr val="606060"/>
                </a:solidFill>
                <a:latin typeface="Gill Sans"/>
              </a:rPr>
              <a:t>of a language. </a:t>
            </a:r>
            <a:endParaRPr b="0" lang="en-US" sz="2900" spc="-1" strike="noStrike">
              <a:solidFill>
                <a:srgbClr val="60606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